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0CF-FCDC-401E-BE8A-91F70A9F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519-0634-475A-854C-E130C600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5DD8A-6D1C-4E25-B13D-6C00A8A2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C6639-D687-4CF2-96B1-80A7021D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925B-DC69-4780-AE4C-6B74B12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1AEE2-C2AF-4000-8474-81F697F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FBC00-228B-4AFF-B2DC-23A8EA2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8BA28-AEF4-4D93-9C2F-D280B24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7281-895D-42FC-80E1-D780DE0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9846-36B6-4060-873C-9C1377AC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B4A62-82C3-4241-95A8-317D266C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A0A06-5852-44B3-A192-30FD99CF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81-D579-42D7-B6BC-BE133C5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CFE05-1C0B-4A7E-92E0-B3546BE7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85526-9D97-4F14-92C4-6BE8C33E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C541-92C3-4DC2-ADC9-2931EED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A245D-35C7-4D2F-BEDA-C84A687A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2C657-8BC0-47BE-BD6A-19A0A79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B108-0D77-4994-976A-48D2A33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63483-2CA1-4564-9357-21E0140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AE59-11E7-4560-944A-4E117A8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AE47F-9F04-41F5-9667-1BFA3298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6974-3E09-439E-92FE-97FAAEAC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1E3-145D-4E70-AC39-9B7F680D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BE455-588F-4EFD-A309-493022B7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209AC-9D95-4FDC-AAE4-F4689A17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C09B8-AE24-4315-B306-C287801B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9A387-427A-4BAE-92D2-A4A72A7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E7D9F-CFA9-48EA-812D-F61C2B0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AB68A-FF13-4FDA-9AB4-C5839A4A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B95CF-CDF2-42C4-85DB-2A63C26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B0730-13FA-45E2-A5C3-00A5BA77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36A7-73B0-400C-BE96-EF2432B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785E-9FFF-4A3F-AAD5-E40203A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8616-AFC6-4F1A-B29D-E918936A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B999-2A7E-4C06-B2FB-3CF706E7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A157A-789C-46C2-B411-B1CCD69A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64C9-2796-4DD6-B453-CBCF4CB5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9B8DA-CED0-414B-8F6F-4692B99D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B563F-279A-4CC2-AEB6-282615F6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83099-BAAF-41D3-971C-DE899A8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F206-48FD-4581-AF6A-0FF20A5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630A-B773-45F8-BD8A-903A2C1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6040-30A3-4841-BCBA-FC0E55CE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F18EF-FB52-44BB-A5E4-6B2803E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F9D5-3BC0-424F-BCD6-33006EE4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88620-1B15-4C80-8742-1B08FBF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CD9A4-0EAE-4EEF-A555-D0005BB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856A0-5260-4AC5-B7EC-EFACEB13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19933-BF18-4323-95A5-82164ACB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BAB4C-231D-4F2D-9BC4-C4F91DC5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9339C-2F12-43F4-A12A-CF924627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6A860-1B20-4213-B0B2-FA5F59B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D5F90-7C8A-4E8C-B555-25DE8711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3D060-5EAB-4765-980C-7E003DD9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FDDED-F25B-49BC-A5F6-DCE1928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86B9-57A2-4C09-9538-DF41029C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2BAD6-EDBF-4EA9-9184-B71A679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31980-664B-4C4D-9EC0-4DD9525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46BCF-6F01-48D1-99AA-2E6E8EB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39DEA-51AB-42DF-831D-BB4CCCEB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05331-9BFA-4BFF-9223-DE16FC8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0465F-D437-4001-85A5-45303BC0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35119-52F6-4760-AD13-CEC6F45D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70AF7-CE3C-4042-B033-E896182A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8F0C5-3529-4BC4-8107-05958A8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3F615-576A-4A66-AF99-503F2D8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605-3630-4438-99B7-E5967C3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8B88C-A96A-4BE0-9D90-1DB9AC65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4BA64-1BD2-48A5-9CD6-97350B74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6CDC6-9853-48B8-8E16-85342E10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AFDFB-9B0B-4FB7-8A36-86995B9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BD0DC-3E71-4AAB-B360-DEB47FC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B530A-78FC-42FB-B072-FCEB910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89450-0228-4178-B1A6-6948EF4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4EBBD-0A98-4EC5-8F69-BEE143EE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AE05F-DF5A-413E-90E2-32351A05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910E2-68EE-41C9-8D6C-B463880A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CBE6-3058-4FB4-9872-C7243451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7BF6B-9ABB-4B8F-9E61-27CD60E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3DF47-64DC-4A8B-BD1A-081D4FA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2E0F2-2612-45CB-B012-33C344C0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297B9-E776-4B0B-9CD1-27C80B7A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5E942-24D4-4D8C-9A57-2A8A3263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34E5F-CE95-4485-8077-BD97DCE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E13F2-95D6-43E1-97AA-5E8875C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C29AC-CB5C-4C25-A9F7-686BF9E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40453-B802-4590-AC16-534907E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C8AC6-51BD-46F2-B429-C0484FE9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CA7-2BD9-4E8C-A62A-8B21601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721CD-137A-4C78-9484-65CD924E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11F66-2E93-4778-9E83-C8C825A3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D8D1A-4305-41D1-A3AF-4073D056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E1DD0-D391-4441-A856-0679920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31CF6-A0FD-40EF-BBC8-D1B4512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A38D0-C42A-422C-B137-0DCAD45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0A78C-4610-47A3-8981-6D51D4B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ED5AB-ADF9-4CA7-8B70-2EA03C6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AD6BD-E97F-46CE-8A19-AEFA6B8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80169-2463-429B-A94B-081674E1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E157-218A-4BDC-8EAD-CDD9756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F384D-0AB7-4F07-9DDA-04EF8E3F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25899-F273-411A-B0CD-F35384D0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D4481-3BEC-45B2-AA3D-5BB9521C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47DE3-2E17-482F-9E6F-CCAFE47B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8F6EE-FFF9-4D3E-9FC3-93179A4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040FB-E9A5-4612-A59C-A8E94DCB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0C5D0-0579-44DC-B926-43376141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26496-9A14-4CEE-A130-5E84623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28A4E-558D-4085-B9C0-339BF7C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D93D4-32B3-43B2-9E82-2E226837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200-1590-44D0-89E9-86CE2C0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AFB7-BABE-4368-B3B4-1919482A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354D0-41EE-44C6-BF87-FEC66CE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6FF88-5E6C-44BB-96A0-7714D70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8196A-0FB3-495E-9FC6-5CFB2F1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62B86-D92A-41B9-9940-287AD87B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D123C-428C-4602-A0FD-88E97229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F2596-AD7E-42CB-9BD2-A7CC3095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3657F-E542-4D32-81AB-5DE9898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7D2CD-47A7-4FC4-8846-AF289B99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267BA-91D7-4CB4-8760-EEA92E4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F2313-14F3-44F3-977A-63763022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BE3-9029-4E9F-B1B6-A6E38C9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70CF2-7D92-4899-A8D6-36775EB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727AF-54ED-450B-8D88-73A1EDE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AC93E-F8A8-4E91-889C-2BA8A95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ABB51-B55B-43A0-89DA-73792C6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9E8E5-029B-4661-869D-D9EBF848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DBE72-AFBF-458E-AB96-35C9F709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CB966-E527-42AC-A63C-F406C27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34FE2-8844-4FFB-8151-6D34843D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2F2A3-F3E8-475C-AC46-65887ED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EDF81-94BE-455F-A818-0F18E3BF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384-29D6-4AAA-BD6F-C902C64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509C2-13E4-438C-9A79-045C9DC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673EF-5107-431C-B6C3-64801041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824A9-AD2F-460D-A6AB-F94E5E21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2B479-1891-404F-89B7-2179912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B7C16-4BD0-4F73-967F-E17C8B7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87EC0-84E3-4F8F-8E7A-D3D0A4B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6719F-B714-4BDF-A8A6-5E14FEB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2A274-F3F0-4139-9B48-55D558F7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B8959-89B1-4260-BB44-76FFB79D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062CD-914F-42EA-B7D1-45DF76D6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1F9C-6919-4A01-AC00-85595CF4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CD44E-73A9-4498-A20C-F78BA31E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9381D-6850-464C-8C5F-892BDD0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3FE67-70C8-433C-BC25-C3FA23A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2588F-F20B-4A1C-AE37-3AD9C649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D41FF-B410-4215-BCA6-0E9691F9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C459B-2B8C-40E9-AE97-4AD737C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673D1-6B78-4A6B-BDFE-197F7E62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71A0E-65A8-4AC1-A33B-F295518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A836B-8102-405F-AC54-8B1AED6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D77E8-3ADB-4A82-AE4E-B5893FAD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C1E6-4C40-4FD4-8768-32922F3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9FC3A-166A-4434-8001-55994A9B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E1386-8B02-4C0E-B14D-BB3E853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78C33-7054-4895-AAEA-3C1D3B0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5103F-9EE7-40A8-86B0-7AF58BB2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8F018-A4FF-4C73-8260-478755E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460FB-6837-471C-8223-CB05AC8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54A410-0A51-4A68-B0DA-9F09728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E5E69-096E-4FF7-B6D1-DFFE588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A7C41-342D-48E9-9668-F58A742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3127F-6FCE-43F5-8DE6-CC3FC6D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53FD-F5EB-465E-9768-73CC28C8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BC123-B67B-47CE-A784-09B9039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BF8D5-4259-4C37-8440-D58CAE07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57D0C3-C23C-4F25-B545-BEFBF310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0D99C3-2368-4678-B8EA-4DCF7D69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D1A99E-E80F-4B22-915B-4AA9B2FD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A4A5E5-9EF9-4228-9606-201CFCE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C26FED-073E-48D2-A8B1-E1CBD1E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F3FCA-D6D5-445C-B927-C525481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4A8122-DFA5-4086-AFFB-50EBEC4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B29368-F35E-426D-AF49-958B051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6811-F667-41C0-9C28-6001561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E2086-0CC3-4E1D-B40F-E20A7F4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C5FC4-CE24-4895-877E-977E6D1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73196-F066-4CA8-87AF-24999370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CA62A-3539-4FA2-8B9F-134828BB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0D071-FB7E-416B-B879-0F15FF9D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9FAC-9E9D-4ABD-9D59-E2FABEB2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E498-651D-418A-AA1A-981AE2F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1897-2785-4077-8875-CF5FD73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447-6126-49B6-8B40-AC41F4E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8494-BB62-4A60-94D1-1CCB1C7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159C-D3E7-41FB-B4B6-B589C3F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FB78-0D55-46F7-B1CC-E5B8F4D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1D30-1121-4996-BFC6-BF353FF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2589-4228-45E6-834E-CADA89A6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49F2-8AAF-47C3-9B34-1713615F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FC31-DED7-44D8-85A5-F226468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A75B-CB9D-41B0-94B0-D7B83DB0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7A06-F9DF-42C9-A1AC-A51F192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F97B-967A-488F-B9DB-37E80B2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CC6-9BA4-429B-B66A-E4618555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79D5-C2AE-47A4-B084-7D8A991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2B51-1D4B-4693-9B50-4CC54178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AFAA-AC35-42CD-8464-D97ACDE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A77F-E283-4432-B4CF-0CD5D92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48D1-3400-4325-80DB-34AEC58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A3FE-59A4-4E80-9B56-A860272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4758-89FB-4C57-98AC-58732D5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F381-87AE-485E-BECA-D00DDC13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BFC7-E54D-4756-8D8B-C13032A4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B7E3C-D9E9-4CED-9651-8DDA45B2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AB1-ED23-49F1-AD6E-849A69F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E4FF-4E36-432C-BB38-C2B260F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6B93-21B6-4B24-9DAB-C40E962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FBE30-BAA5-41CB-AEFF-E1430CF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4506-C389-4DFA-A7D5-C84B747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28F46-8255-44E3-B010-1D2EC7A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E08D-4DCE-4002-AD28-B4A0716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8F31-9B04-471C-82D4-9A3DEE9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58BF-B2AC-4EF5-A26C-88E389D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3468-0F2D-4B59-BA6D-289D625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F711-75DC-422C-A076-C9C52785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FA8-C057-443F-AA90-BAEAA276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6DE4-1597-4B36-9520-F797DD7F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89A5-8EA3-4E45-812A-C24FD74B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BEE9-EAA1-4049-813D-1837C011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E10E-5FEC-4887-98B7-BF438CC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7016C-4E27-4E65-9B17-DFF5CDF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24F0-FD86-4A1F-AACA-6EC76493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A6F0-ADFC-43E1-8E49-4F4D893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C597-1784-45CC-BAEC-7230D54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7AB57-7B7A-42A2-98FA-6DD55C8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125F-B045-46E4-A2DA-0426D7D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672-D57A-4E09-B52A-022070C9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722A-CE10-4E05-BB24-7ECD86F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5697-D399-48DD-BE13-8FD5B3F9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C6DE-679A-41A1-A9BF-F10B94C8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FDE04-91AB-4FBC-9FD7-6309F8C9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43DC9-0355-4829-B019-7D57525F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2820-185F-48AE-9C50-CD3ACAB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E95F-B555-42DA-A365-1B4EA79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147A-E535-46F0-8A05-F399AD0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E068-3A7C-463F-ABE8-4AE455D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0D0D-E281-45C6-8164-1D0CC1E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AA6-2555-4CAC-9B52-D35C975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422D-FBA7-4922-9B77-22FB4E2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DF0F0-E998-4F8B-B212-8FEFE3AC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A7BF-85AD-4F9E-A089-20E60B6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2BB9-462B-4641-BCC7-928A6E3E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F1E8A-18DC-4B1B-A592-A6CF9101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CCBF8-07E1-432E-A2FF-47505588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6605-1D9D-4902-A71C-301BA3FD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2226-048B-485B-9D49-563B175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560E-6CB6-4A4C-BB03-D21EB9C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9D93-5D40-47E0-865E-6AE532F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BD4-E41F-490B-9E05-0934642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9FC2-0056-44C1-A2E4-85E2367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47B20-2843-4FEF-9E2B-838EE9F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25B6-CEE7-4B99-A60C-D417FDE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1538-0B51-4628-9B02-5B2A7D7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80ECC-C87D-4A14-B0CF-C26230A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EAEEB-22B8-434E-99B5-3FD72230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7B04-8584-42D6-86CE-4D2A31F2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B25A2-5739-4BFB-B649-D04E8C88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DBC60-FCC9-4226-A04C-021200C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C2B49-8CAB-40FB-AEC5-BDAB4CD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75C-F146-42D2-85DC-C4866C6900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79BC-34EE-409A-A0BB-A4BBA68A1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1B3-6000-4A5E-8309-08036894DA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017-329E-41B7-8AAA-CC63189FD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081-7CB1-4DA0-9C19-8F78031E7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88E3-6368-4A03-BF45-E3769C871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032-57EA-409A-833D-2936C509D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4D2-BCFD-4A69-BDB5-F2764D587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D6D-C3A0-4D38-A6B6-31C1976E2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7F5B-CDBD-4CFA-BDAF-7912C88F2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D0B-1786-4134-A839-A6C78DC4D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9EB-AE95-462B-B06B-017EE0BA4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A0D5-1EE7-42BF-923E-A8F8FF285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FC1-DE7C-4980-AA0E-A3C1E8DD7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09C-F824-416D-A05B-4201924740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306A-DB28-44F3-8A3C-CA006FC01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566-670D-4047-8E35-DC0AADE44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80D-FCCB-44C6-A085-1FAD56293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25F-A665-47F1-81EB-6381E76FD6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6B6-6FC7-4C3A-9257-A49C023B7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889D-B672-4C10-AA77-22EEC0713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C59-8F19-4A41-8396-F3E5F1B87E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1C4-E768-4561-944A-B9DAB90E9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BCC-C005-4D58-BA73-1B41DB09A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DA0-1AD5-42CB-B282-D16FDAAC0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73D5-BD8A-4A00-AAD9-A137BF16E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488-0770-4CB2-A294-9F244B36F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C74-7A77-4A60-BB6A-E3C01C2C1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D05-4DEA-4A55-A43F-6D9786E0A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9B9-A706-4131-8CDE-C6456C8E6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0F7-165C-4B4D-AF89-4E6C10F0C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D623-98D3-47F2-BFD2-360554D4A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2E4-FFC4-431A-A393-7A71218AB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480-6744-43B8-A561-77255D45B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4C0-F169-4AB8-AB92-B7AECFF8B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7FF0-3DA6-44FF-B3EB-29EEB69D3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793-F572-4786-8F95-0E1370BB1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76B6-C8C9-479D-8842-FBB1CDE58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D68-4139-4A2F-8CFE-8F3B70218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D20D-0157-492D-9B6E-1639033EF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0F7-4D03-43C6-85A4-1994F2E4D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162080" y="2862360"/>
            <a:ext cx="6819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组合 6147"/>
          <p:cNvGrpSpPr/>
          <p:nvPr/>
        </p:nvGrpSpPr>
        <p:grpSpPr>
          <a:xfrm>
            <a:off x="995400" y="1547640"/>
            <a:ext cx="7153200" cy="3762720"/>
            <a:chOff x="995400" y="1547640"/>
            <a:chExt cx="7153200" cy="3762720"/>
          </a:xfrm>
        </p:grpSpPr>
        <p:pic>
          <p:nvPicPr>
            <p:cNvPr id="964" name="图片 6145" descr=""/>
            <p:cNvPicPr/>
            <p:nvPr/>
          </p:nvPicPr>
          <p:blipFill>
            <a:blip r:embed="rId1"/>
            <a:stretch/>
          </p:blipFill>
          <p:spPr>
            <a:xfrm>
              <a:off x="995400" y="1547640"/>
              <a:ext cx="7153200" cy="37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图片 6146" descr=""/>
            <p:cNvPicPr/>
            <p:nvPr/>
          </p:nvPicPr>
          <p:blipFill>
            <a:blip r:embed="rId2"/>
            <a:stretch/>
          </p:blipFill>
          <p:spPr>
            <a:xfrm>
              <a:off x="4010040" y="2506680"/>
              <a:ext cx="4067280" cy="27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椭圆 6148"/>
          <p:cNvSpPr/>
          <p:nvPr/>
        </p:nvSpPr>
        <p:spPr>
          <a:xfrm>
            <a:off x="6300720" y="269388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6149"/>
          <p:cNvSpPr/>
          <p:nvPr/>
        </p:nvSpPr>
        <p:spPr>
          <a:xfrm>
            <a:off x="6804000" y="328464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6150"/>
          <p:cNvSpPr/>
          <p:nvPr/>
        </p:nvSpPr>
        <p:spPr>
          <a:xfrm>
            <a:off x="6372360" y="393372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6151"/>
          <p:cNvSpPr/>
          <p:nvPr/>
        </p:nvSpPr>
        <p:spPr>
          <a:xfrm>
            <a:off x="5796000" y="465300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170" descr=""/>
          <p:cNvPicPr/>
          <p:nvPr/>
        </p:nvPicPr>
        <p:blipFill>
          <a:blip r:embed="rId1"/>
          <a:stretch/>
        </p:blipFill>
        <p:spPr>
          <a:xfrm>
            <a:off x="333360" y="1695600"/>
            <a:ext cx="8477280" cy="3466800"/>
          </a:xfrm>
          <a:prstGeom prst="rect">
            <a:avLst/>
          </a:prstGeom>
          <a:ln w="0">
            <a:noFill/>
          </a:ln>
        </p:spPr>
      </p:pic>
      <p:sp>
        <p:nvSpPr>
          <p:cNvPr id="971" name="椭圆 7171"/>
          <p:cNvSpPr/>
          <p:nvPr/>
        </p:nvSpPr>
        <p:spPr>
          <a:xfrm>
            <a:off x="3708360" y="292428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椭圆 7172"/>
          <p:cNvSpPr/>
          <p:nvPr/>
        </p:nvSpPr>
        <p:spPr>
          <a:xfrm>
            <a:off x="7020000" y="292428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椭圆 7173"/>
          <p:cNvSpPr/>
          <p:nvPr/>
        </p:nvSpPr>
        <p:spPr>
          <a:xfrm>
            <a:off x="3419640" y="3500280"/>
            <a:ext cx="865080" cy="9367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椭圆 7174"/>
          <p:cNvSpPr/>
          <p:nvPr/>
        </p:nvSpPr>
        <p:spPr>
          <a:xfrm>
            <a:off x="1187280" y="4437000"/>
            <a:ext cx="865440" cy="9367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组合 8197"/>
          <p:cNvGrpSpPr/>
          <p:nvPr/>
        </p:nvGrpSpPr>
        <p:grpSpPr>
          <a:xfrm>
            <a:off x="647640" y="1133640"/>
            <a:ext cx="7848720" cy="4590720"/>
            <a:chOff x="647640" y="1133640"/>
            <a:chExt cx="7848720" cy="4590720"/>
          </a:xfrm>
        </p:grpSpPr>
        <p:pic>
          <p:nvPicPr>
            <p:cNvPr id="976" name="图片 8193" descr=""/>
            <p:cNvPicPr/>
            <p:nvPr/>
          </p:nvPicPr>
          <p:blipFill>
            <a:blip r:embed="rId1"/>
            <a:stretch/>
          </p:blipFill>
          <p:spPr>
            <a:xfrm>
              <a:off x="647640" y="1133640"/>
              <a:ext cx="7848720" cy="45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图片 8196" descr=""/>
            <p:cNvPicPr/>
            <p:nvPr/>
          </p:nvPicPr>
          <p:blipFill>
            <a:blip r:embed="rId2"/>
            <a:stretch/>
          </p:blipFill>
          <p:spPr>
            <a:xfrm>
              <a:off x="4716360" y="3774960"/>
              <a:ext cx="3191040" cy="18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8" name="图片 8194" descr=""/>
          <p:cNvPicPr/>
          <p:nvPr/>
        </p:nvPicPr>
        <p:blipFill>
          <a:blip r:embed="rId3"/>
          <a:stretch/>
        </p:blipFill>
        <p:spPr>
          <a:xfrm>
            <a:off x="942840" y="1569960"/>
            <a:ext cx="3000600" cy="12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4572000" y="2565360"/>
            <a:ext cx="1655640" cy="318960"/>
          </a:xfrm>
          <a:prstGeom prst="rect">
            <a:avLst/>
          </a:prstGeom>
          <a:ln w="0">
            <a:noFill/>
          </a:ln>
        </p:spPr>
      </p:pic>
      <p:sp>
        <p:nvSpPr>
          <p:cNvPr id="980" name="直接连接符 8198"/>
          <p:cNvSpPr/>
          <p:nvPr/>
        </p:nvSpPr>
        <p:spPr>
          <a:xfrm>
            <a:off x="5364000" y="4437000"/>
            <a:ext cx="792360" cy="936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199"/>
          <p:cNvSpPr/>
          <p:nvPr/>
        </p:nvSpPr>
        <p:spPr>
          <a:xfrm flipV="1">
            <a:off x="5364000" y="4941720"/>
            <a:ext cx="792360" cy="144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200"/>
          <p:cNvSpPr/>
          <p:nvPr/>
        </p:nvSpPr>
        <p:spPr>
          <a:xfrm flipV="1">
            <a:off x="5349960" y="4581000"/>
            <a:ext cx="806400" cy="8067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2:49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